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3FD-2E2F-4488-8C61-4C4FB1B3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CF6-65E7-4458-AA19-47F7E48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0D1-E93C-45C9-96A8-C6A00A63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011-7040-4ED4-BB89-64876696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006-612A-40ED-AB64-13D1F041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622-85BF-4ED1-B9AD-12AB2AD6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0BB-BD97-4CF6-AF3D-AC25B4BB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B40-CE87-44BB-9B77-4D739041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E01-9DB1-4D22-9561-98203B9A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F5B-9269-4471-AD84-DFBA10C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FA3-9431-4A50-AED7-782D8F8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D23-25D9-4051-AA9D-DE3C8D9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355D-5FBB-4AE9-9C04-79DF4D6F6F2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 хемиј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вна јединица 15 (петнаеста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851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еницил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2362320" y="1374840"/>
          <a:ext cx="419076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4840"/>
                    <a:ext cx="41907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85800" y="3886200"/>
          <a:ext cx="8001000" cy="265104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емијска 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а 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нз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или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хидроксибензил-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или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т-2-ен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или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=CH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хепт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 или 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(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ам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хидро 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(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ксимет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O-C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сточлани хетероцикли са два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066680" y="1676520"/>
          <a:ext cx="731520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3152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1040760" y="351936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иридазин                           пиримидин                                пи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55440" y="3824280"/>
            <a:ext cx="74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= 2,33                              pKa= 1,30                               pKa= 0,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21400" y="4168800"/>
            <a:ext cx="74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t.k.= 2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t.k.= 1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C                             t.k.= 1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дазин или 1,2-ди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7696080" y="533520"/>
          <a:ext cx="1017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33520"/>
                    <a:ext cx="1017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9"/>
          <p:cNvGraphicFramePr/>
          <p:nvPr/>
        </p:nvGraphicFramePr>
        <p:xfrm>
          <a:off x="228600" y="2133720"/>
          <a:ext cx="8686800" cy="19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33720"/>
                    <a:ext cx="868680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600200" y="762120"/>
          <a:ext cx="5562720" cy="48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62120"/>
                    <a:ext cx="55627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6"/>
          <p:cNvSpPr/>
          <p:nvPr/>
        </p:nvSpPr>
        <p:spPr>
          <a:xfrm>
            <a:off x="1600200" y="59436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лор у положају 4 је јако реактиван па се лако може замен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мидин или 1,3-ди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7620120" y="380880"/>
          <a:ext cx="1082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80880"/>
                    <a:ext cx="1082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6"/>
          <p:cNvGraphicFramePr/>
          <p:nvPr/>
        </p:nvGraphicFramePr>
        <p:xfrm>
          <a:off x="457200" y="3809880"/>
          <a:ext cx="822960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9880"/>
                    <a:ext cx="82296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8"/>
          <p:cNvSpPr/>
          <p:nvPr/>
        </p:nvSpPr>
        <p:spPr>
          <a:xfrm>
            <a:off x="315360" y="2286000"/>
            <a:ext cx="88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јједноставнија метода за формирање пиримидинског прстена је циклиз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jедињења са следећим распоредом атома: </a:t>
            </a:r>
            <a:r>
              <a:rPr b="1" lang="sr-CS" sz="2000" spc="-1" strike="noStrike">
                <a:solidFill>
                  <a:srgbClr val="333399"/>
                </a:solidFill>
                <a:latin typeface="Times New Roman"/>
              </a:rPr>
              <a:t>С-С-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sr-CS" sz="2000" spc="-1" strike="noStrike">
                <a:solidFill>
                  <a:srgbClr val="ff3300"/>
                </a:solidFill>
                <a:latin typeface="Times New Roman"/>
              </a:rPr>
              <a:t>N-C-N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600200" y="4267080"/>
            <a:ext cx="152280" cy="1295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57200" y="4267080"/>
            <a:ext cx="152280" cy="12956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320" y="56386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арбамид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143360" y="3506760"/>
            <a:ext cx="11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ало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354120" y="5715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арби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371600" y="1066680"/>
          <a:ext cx="632448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32448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685800" y="3733920"/>
          <a:ext cx="8153280" cy="20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733920"/>
                    <a:ext cx="815328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380880" y="2895480"/>
          <a:ext cx="845820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4582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24880" y="152388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тил групе у положајима 2, 4 и 6 су реактивне и могу се кондензо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а бензалдехидом, па се у овом случају добија 2,4,6-тристирилпиримид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м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143000" y="1219320"/>
          <a:ext cx="67057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7057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81080" y="4159080"/>
          <a:ext cx="5029200" cy="20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59080"/>
                    <a:ext cx="5029200" cy="20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8"/>
          <p:cNvSpPr/>
          <p:nvPr/>
        </p:nvSpPr>
        <p:spPr>
          <a:xfrm>
            <a:off x="1143000" y="34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цитозин                              тимин                             урац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01840" y="61722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арбитурн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азин или 1,4-ди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7467480" y="533520"/>
          <a:ext cx="9622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533520"/>
                    <a:ext cx="962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990720" y="2209680"/>
          <a:ext cx="716256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09680"/>
                    <a:ext cx="71625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9"/>
          <p:cNvSpPr/>
          <p:nvPr/>
        </p:nvSpPr>
        <p:spPr>
          <a:xfrm>
            <a:off x="762480" y="160020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аминокарбонилно једињ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516040" y="48769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-дикарбони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једињ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992160" y="48769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-ди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1295280" y="2514600"/>
          <a:ext cx="10432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1043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9"/>
          <p:cNvSpPr/>
          <p:nvPr/>
        </p:nvSpPr>
        <p:spPr>
          <a:xfrm>
            <a:off x="1145880" y="50292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и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3276720" y="3048120"/>
          <a:ext cx="106668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8120"/>
                    <a:ext cx="10666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3"/>
          <p:cNvSpPr/>
          <p:nvPr/>
        </p:nvSpPr>
        <p:spPr>
          <a:xfrm>
            <a:off x="3277440" y="502920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рфо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429360" y="1349280"/>
            <a:ext cx="548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а четири С атома пиразина су еквивален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ектрофилној супституцији подлеже само 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у присутне електрон-донорске г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стенови са два различита хетероатома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оксазол или 1,2-окс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838080" y="2362320"/>
          <a:ext cx="7315200" cy="37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315200" cy="37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7467480" y="838080"/>
          <a:ext cx="114300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838080"/>
                    <a:ext cx="114300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дензовани хетероцикли са два и више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урин или имидазол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,5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]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иримидин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2057400" y="2514600"/>
          <a:ext cx="464832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14600"/>
                    <a:ext cx="46483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6"/>
          <p:cNvSpPr/>
          <p:nvPr/>
        </p:nvSpPr>
        <p:spPr>
          <a:xfrm>
            <a:off x="2793960" y="41292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7H                                       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85800" y="510552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урински систем се јавља у два таутомерна облика: 7Н и 9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кристалном стању пурински систем постоји као 7Н тауто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к се у раствору налазе 7Н и 9Н таутомери у приближно једнаким количи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609480" y="1447920"/>
          <a:ext cx="7925040" cy="45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92504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6"/>
          <p:cNvSpPr/>
          <p:nvPr/>
        </p:nvSpPr>
        <p:spPr>
          <a:xfrm>
            <a:off x="4421520" y="22096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начин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345200" y="44956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начин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краћна киселина (дериват пур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046320" y="11430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,6,8-трихидроксипу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1219320" y="1447920"/>
          <a:ext cx="6629400" cy="49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629400" cy="49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7"/>
          <p:cNvSpPr/>
          <p:nvPr/>
        </p:nvSpPr>
        <p:spPr>
          <a:xfrm>
            <a:off x="3277440" y="64008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ок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ривати пу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28600" y="1905120"/>
          <a:ext cx="8472600" cy="24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472600" cy="24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5"/>
          <p:cNvSpPr/>
          <p:nvPr/>
        </p:nvSpPr>
        <p:spPr>
          <a:xfrm>
            <a:off x="1115280" y="4433760"/>
            <a:ext cx="67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офилин                         теобромин                              коф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10560" y="480060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1,3-диметилкса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277800" y="480060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3,7-диметилкса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019920" y="48006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1,3,7-триметилкса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теридин или пирази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,3-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мид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990720" y="2209680"/>
          <a:ext cx="741996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41996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62480" y="388620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,5-диаминопирими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812760" y="388620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лиокс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Фолна киселина (дериват птерид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28600" y="2133720"/>
          <a:ext cx="8628120" cy="24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62812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6"/>
          <p:cNvSpPr/>
          <p:nvPr/>
        </p:nvSpPr>
        <p:spPr>
          <a:xfrm>
            <a:off x="289080" y="4267080"/>
            <a:ext cx="26064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амино-4-хидроксиптерид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212560" y="4800600"/>
            <a:ext cx="17960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тероинска кисе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304560" y="4952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0384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429000" y="4267080"/>
            <a:ext cx="22892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аминобензоева кисе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6404400" y="4267080"/>
            <a:ext cx="18846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лутаминска кисе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048120" y="5257800"/>
            <a:ext cx="37911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фолна киселина (птероиглутаминска кисели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858000" y="54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3049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онантне структуре изокс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533520" y="1981080"/>
          <a:ext cx="777240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777240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6"/>
          <p:cNvSpPr/>
          <p:nvPr/>
        </p:nvSpPr>
        <p:spPr>
          <a:xfrm>
            <a:off x="457200" y="1981080"/>
            <a:ext cx="8153280" cy="129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3429000"/>
            <a:ext cx="510552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30280" y="5105520"/>
            <a:ext cx="710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во једињење је хибрид више резонанционих структура. Присутни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Times New Roman"/>
              </a:rPr>
              <a:t>резонанциони облици слични фурану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резонанциони облици слични пири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0"/>
          <p:cNvGraphicFramePr/>
          <p:nvPr/>
        </p:nvGraphicFramePr>
        <p:xfrm>
          <a:off x="7696080" y="3657600"/>
          <a:ext cx="8334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3657600"/>
                    <a:ext cx="833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Oval 12"/>
          <p:cNvSpPr/>
          <p:nvPr/>
        </p:nvSpPr>
        <p:spPr>
          <a:xfrm>
            <a:off x="7848720" y="3581280"/>
            <a:ext cx="228600" cy="22860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098040" y="358128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напад електроф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021000" y="39625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напад нуклеоф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74674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7391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ксазол или 1,3-окс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762120" y="1905120"/>
          <a:ext cx="754380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6"/>
          <p:cNvGraphicFramePr/>
          <p:nvPr/>
        </p:nvGraphicFramePr>
        <p:xfrm>
          <a:off x="2743200" y="3809880"/>
          <a:ext cx="327672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809880"/>
                    <a:ext cx="32767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2597760" y="5791320"/>
            <a:ext cx="317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 слаба база pK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1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9"/>
          <p:cNvGraphicFramePr/>
          <p:nvPr/>
        </p:nvGraphicFramePr>
        <p:xfrm>
          <a:off x="7620120" y="380880"/>
          <a:ext cx="98100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80880"/>
                    <a:ext cx="981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окс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1828800" y="1600200"/>
          <a:ext cx="571500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7150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6"/>
          <p:cNvGraphicFramePr/>
          <p:nvPr/>
        </p:nvGraphicFramePr>
        <p:xfrm>
          <a:off x="1905120" y="3124080"/>
          <a:ext cx="3124080" cy="14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124080"/>
                    <a:ext cx="31240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9"/>
          <p:cNvGraphicFramePr/>
          <p:nvPr/>
        </p:nvGraphicFramePr>
        <p:xfrm>
          <a:off x="1828800" y="5029200"/>
          <a:ext cx="609588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029200"/>
                    <a:ext cx="60958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2"/>
          <p:cNvSpPr/>
          <p:nvPr/>
        </p:nvSpPr>
        <p:spPr>
          <a:xfrm>
            <a:off x="306000" y="1981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06000" y="38862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06000" y="5410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2286000" y="1600200"/>
            <a:ext cx="380880" cy="380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6477120" y="2286000"/>
            <a:ext cx="38088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4419720" y="4038480"/>
            <a:ext cx="38088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7315200" y="5562720"/>
            <a:ext cx="38088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752480" y="4800600"/>
            <a:ext cx="6477120" cy="1600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581280" y="1371600"/>
          <a:ext cx="8874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71600"/>
                    <a:ext cx="887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0"/>
          <p:cNvGraphicFramePr/>
          <p:nvPr/>
        </p:nvGraphicFramePr>
        <p:xfrm>
          <a:off x="685800" y="3809880"/>
          <a:ext cx="7848720" cy="17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09880"/>
                    <a:ext cx="784872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Oval 11"/>
          <p:cNvSpPr/>
          <p:nvPr/>
        </p:nvSpPr>
        <p:spPr>
          <a:xfrm>
            <a:off x="3505320" y="1752480"/>
            <a:ext cx="304560" cy="3049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4267080" y="1752480"/>
            <a:ext cx="304920" cy="3049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14400" y="16765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апад електроф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9718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106240" y="1676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апад нуклеоф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 flipH="1">
            <a:off x="46483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2665800" y="29718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Diels-Alder-ова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злакт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209680" y="1676520"/>
          <a:ext cx="411480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41148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990720" y="3581280"/>
          <a:ext cx="75438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75438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1755720" y="5867280"/>
            <a:ext cx="59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стају циклизацијом ацилованих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минокис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519560" y="279720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злактон представља оксо облик 5-хидроксиоксаз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отиазол или 1,2-т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533520" y="2362320"/>
          <a:ext cx="815328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1532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5"/>
          <p:cNvSpPr/>
          <p:nvPr/>
        </p:nvSpPr>
        <p:spPr>
          <a:xfrm>
            <a:off x="1140840" y="388620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иде само под драстичним усл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7467480" y="609480"/>
          <a:ext cx="121932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609480"/>
                    <a:ext cx="12193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иазол или 1,3-т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7315200" y="533520"/>
          <a:ext cx="11224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533520"/>
                    <a:ext cx="11224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533520" y="2209680"/>
          <a:ext cx="815328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09680"/>
                    <a:ext cx="8153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5:37:38Z</dcterms:created>
  <dc:creator>FullNameHere</dc:creator>
  <dc:description/>
  <dc:language>en-US</dc:language>
  <cp:lastModifiedBy>Гордана Радић</cp:lastModifiedBy>
  <dcterms:modified xsi:type="dcterms:W3CDTF">2016-09-06T07:35:36Z</dcterms:modified>
  <cp:revision>30</cp:revision>
  <dc:subject/>
  <dc:title>Slide 1</dc:title>
</cp:coreProperties>
</file>